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8801-124C-4353-A7D5-8CB8234BB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37A0-174C-4B69-9AEF-E894FBA70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6004-78C5-42DE-BF65-4CFB461A8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2BCC-AE1E-4882-9251-82BF31FB8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6D7FA-822F-4F07-9F78-3F16B6AE2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36C71-838A-4F57-952E-9C2D4BC39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CC372-22CD-4FAC-B44C-D8E376569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5A53B-066A-4166-BFF5-F22D5C285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C4B30-37C0-4FEB-AC4A-B2522361A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2DF87-89E4-499F-8E0E-CA017C117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5CCD3-1D8F-4310-A744-97D654C16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4965-FD35-4EBA-9EBF-93C91941E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30589-ECD6-4F2A-8CEC-41104E9BF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719E8-484E-4DDA-91DA-8484AAB2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FB3C6-2D17-444A-A67F-6D3EA960A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CD12D-4B37-4F11-9D95-26D755026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63ABC-5696-4752-A336-9B37B9FAE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36A3-0E5F-4EC9-8D99-6B26A85AA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42AD-FFB6-47D1-8B28-DC775F1BC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D956-2D99-4EB3-98DD-3BC0670B0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51FD-03F0-4374-9453-CF5710591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2318-FBFB-4CA1-BC04-8715183C4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F0A4-8070-4967-A176-CBE34BD07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A9F3-F67B-48A9-B1A0-084BBD60E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D4CD8-DD09-4965-8D38-906D8F51B7A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DAB3B-FD44-4D3B-A36E-DDAEB9AD2ED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arm-Up Sentenc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cording to a USA Today report, overweight men make about $4,000 fewer per year then those whom are average weigh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ck band roadies put in 17 hour days transporting, and handling musical equipment, and they earn among $500 and $1,500 a wee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Journal #71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ould television, music, books, video games, etc…be censored?  Why or why no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arm-Up Sentenc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United States dept. of labor projects that in the next 10 years only 31% of those entering the workforce will be non hispanic white men, women will comprise 52% of the new worke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ile insomniacs may change body position more than one hundred times a night normal sleepers changes positions only 30 tim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Journal #72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re you looking forward to during the next stages of your lif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62120" y="-38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Friday Warm-up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380520" y="17524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urn the following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agment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incomplete sentences) into grammatically correct sentenc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"/>
          <p:cNvSpPr/>
          <p:nvPr/>
        </p:nvSpPr>
        <p:spPr>
          <a:xfrm>
            <a:off x="304920" y="3429000"/>
            <a:ext cx="86104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loud stereo that kept me up all nigh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gorgeous sunrise breaking on the horiz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obnoxious child only a mother could lov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ading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The Great Gatsby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until daw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hile the mother stood outside wait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18:26:28Z</dcterms:created>
  <dc:creator>tpagel</dc:creator>
  <dc:description/>
  <dc:language>en-US</dc:language>
  <cp:lastModifiedBy>tpagel</cp:lastModifiedBy>
  <dcterms:modified xsi:type="dcterms:W3CDTF">2010-06-03T18:27:00Z</dcterms:modified>
  <cp:revision>1</cp:revision>
  <dc:subject/>
  <dc:title>Warm-Up Sentences</dc:title>
</cp:coreProperties>
</file>